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A12DE-34C3-4738-86B0-5B291E2F55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A32E-008A-4220-9BFA-9A08E3E01B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20DB0-1848-49AB-9712-D0022032C7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D7562-00D2-46A3-B949-695FB2DB8D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DE2DE-79C0-4C30-B57E-EFB594661C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F1AA3-A722-4426-BC14-A7367F445E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A1B39-6917-44B8-957F-8CBB6B533C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6CA3D-EADA-46F0-B3EF-B3C3C847AB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95C6-3620-4D27-8627-9E68F23662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AD69-64B0-4DFB-8295-0166C37D34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FD7B-9704-41A6-876A-80ED4B79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3A91-E351-4B0F-8AA3-9B4B715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67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59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67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59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9F5A-E08D-4F5F-977A-3E2F3703A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63355-0A7D-4495-8354-8C22C99B7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A35B8-67F9-40BE-9E6F-35DBF311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0490-4B17-4793-8EAC-060E1101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7100E-BA70-4C02-8C71-47F90B9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F2D6E-E081-4D38-BAFF-EFDB7499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20854-54EF-403E-ABEF-71934021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DB4DD-455A-48B0-9C71-9615A1CD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FDCE-7A3F-4B08-A854-CDF4D1B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B8FEF-C7BE-4F8D-A902-0E989F6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EC7E-A8F4-4890-AC8F-81C7FA2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CE76D-3DCE-4AF5-B7E5-ADF9BB52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E5C1-1601-4C6B-8A8B-FE32F6F5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9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9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90DA-BEDD-41BE-8018-427F4D606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8C65-6BD4-4D7C-96B3-19751B574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5705-C440-45BF-832D-DAE0FAE7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D0F-E688-44AB-AD27-FABC5BDC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604C-3110-4DA1-887E-23F5C0E9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66E-52A0-4FFE-B070-01C254B9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660A-12CD-40B3-BE5B-DA5D38F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D8A4-BC84-415C-8CFC-AF6B1C23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446-A89C-4E1E-A06C-730CF297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E47-E722-4BB1-A3CC-15C2975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BE2-B8CC-4019-9004-35B72F8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189-CE6E-4B7E-BD7E-CBFB797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BCF-4EB5-464C-9077-DDD18E3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67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59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67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59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398-4200-49BF-B30C-F2C58FF25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23ADA-8D92-438B-8DAD-13D9CC862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EEEE1-850F-4153-8E20-ACFFA74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56097-88CA-4E38-8B3E-04DFB22D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67F8-7362-4890-815D-F8C5752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693BC-7C68-45FF-8102-2FC508B7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1E920-B7BE-47D4-81E0-FFE7533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3774D-D477-4231-8E4D-9F56E10D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E7647-714E-4663-8F30-575FD49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2EF7E-62E7-4455-8AFD-7C50AD9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D8092-983C-4CF5-81B5-3A4BA0C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11BEA-D5EA-4A27-9710-9FCA698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0EC43-254A-43DA-A9F0-AE2BF73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67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59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67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59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40C5D-CAB5-4E36-9B2B-50E8629D68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C97F9-970C-494D-9D15-1C0855EE7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3A18-39C9-4346-983C-A7E68085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E9CB2-9210-46C8-A611-9DB805A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A3E96-9A0C-4228-8850-EB3F984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83994-6230-42F9-A75E-D15ADD8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5967F-BCEA-4D9F-9DCD-761F3002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1C07-168E-4173-8EC8-91F7E8C7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03C02-CC39-4BAB-B857-78F0B55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3B979-0474-477C-A175-50A4051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1087-CA9C-45F2-9E3A-43C2B749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8C659-F674-47D2-A59E-21A3396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A16EE-D1CD-4980-AA6B-F5D5A12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D4A1-2762-48EA-9684-5ABF907F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67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5960" y="14810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67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5960" y="38404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43081-F2DF-49A0-A34D-E99522F66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2303-D3B6-4F10-9F85-2CA620F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9200" y="38404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5C13-0973-40E7-B93B-2717CBA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4810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04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B362-FE0D-461A-BE01-CF8145C6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7640" y="5788080"/>
            <a:ext cx="3413160" cy="1077840"/>
            <a:chOff x="-17640" y="5788080"/>
            <a:chExt cx="3413160" cy="107784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31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120" y="6421320"/>
              <a:ext cx="16923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5880" y="6408720"/>
            <a:ext cx="19112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7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55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E2DC7-C6F5-4106-A26E-58D0D7BDA01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725880" y="6408720"/>
            <a:ext cx="19112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55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CC9CA4-B5C6-4556-991C-6CC5C8F7099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17640" y="5788080"/>
            <a:ext cx="3413160" cy="1077840"/>
            <a:chOff x="-17640" y="5788080"/>
            <a:chExt cx="3413160" cy="107784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31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120" y="6421320"/>
              <a:ext cx="16923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5880" y="6408720"/>
            <a:ext cx="19112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55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543DDB-224B-40FF-88B7-9B365CEE7E6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725880" y="6408720"/>
            <a:ext cx="19112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55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497986-D78F-4AAB-9DCA-AB64B949C8F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-17640" y="5788080"/>
            <a:ext cx="3413160" cy="1077840"/>
            <a:chOff x="-17640" y="5788080"/>
            <a:chExt cx="3413160" cy="107784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31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120" y="6421320"/>
              <a:ext cx="16923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6725880" y="6408720"/>
            <a:ext cx="19112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55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E1A12F-9D4F-4DCC-95C4-7C54D1FECF7B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36760" y="4267080"/>
            <a:ext cx="66549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БЮДЖЕТ ДЛЯ ГРАЖДАН 202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DE9A-9B3A-4563-9AB9-81330D5E63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8B52-2358-4523-ADCD-EA893C88D8F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5D32F-C56C-4398-BEAD-861277B13DB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5335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5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39E0F-36E6-40A7-965D-D7775D9E1C8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28560" y="85716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ланируемые доходы местного бюджета в 2025 году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68 832,4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61056,3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5024,5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105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664,0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2869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39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7776,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892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1125,6 тыс. 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48FE2-6102-4470-88D9-E3D126EC5A4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609480" y="514440"/>
            <a:ext cx="8220240" cy="5683320"/>
            <a:chOff x="609480" y="514440"/>
            <a:chExt cx="8220240" cy="5683320"/>
          </a:xfrm>
        </p:grpSpPr>
        <p:sp>
          <p:nvSpPr>
            <p:cNvPr id="246" name=""/>
            <p:cNvSpPr/>
            <p:nvPr/>
          </p:nvSpPr>
          <p:spPr>
            <a:xfrm>
              <a:off x="609480" y="514440"/>
              <a:ext cx="628668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5880" y="514440"/>
              <a:ext cx="16236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ссов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н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2023 го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39200" y="51444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39200" y="103140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480" y="154908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ходы, все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05880" y="154908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8832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39200" y="154908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206460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цизы по подакцизным товарам (продукции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мым на территории Российской Федер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5880" y="206460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393,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39200" y="206460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480" y="258372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и на прибыль,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05880" y="258372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39200" y="258372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480" y="309816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ый сельскохозяйственный нало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05880" y="309816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05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39200" y="309816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480" y="361044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 на имущество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05880" y="361044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64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9200" y="361044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480" y="412812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организа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05880" y="412812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469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9200" y="412812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464544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05880" y="464544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0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39200" y="464544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80" y="5162760"/>
              <a:ext cx="6286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трафы, санкции, возмещение ущерб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05880" y="5162760"/>
              <a:ext cx="1623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39200" y="5162760"/>
              <a:ext cx="280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480" y="5680080"/>
              <a:ext cx="6286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возмездные поступ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05880" y="5680080"/>
              <a:ext cx="1623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372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776,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39200" y="5680080"/>
              <a:ext cx="280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05880" y="514440"/>
              <a:ext cx="0" cy="567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39200" y="514440"/>
              <a:ext cx="0" cy="567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480" y="154908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480" y="206460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258372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09816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361044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480" y="412812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480" y="464544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516276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480" y="568008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514440"/>
              <a:ext cx="0" cy="567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29720" y="1031400"/>
              <a:ext cx="0" cy="507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51444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6197760"/>
              <a:ext cx="792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1A69-FCB8-4058-8461-01BF32803CF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нируемые расходы на 2025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8832,4 тыс.руб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по следующим разделам бюджетной классифика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436,5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1125,6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458,8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0015,6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83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24484,5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1317,4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180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41F3-7991-47FF-A35C-E5341A837C4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5EA98-1032-48C6-A6F9-B4FD8C56F3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457200"/>
            <a:ext cx="82296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39B1E-BBD8-4DCD-8FC4-F59EB29623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8B58-61CE-441F-80D4-0DCD790038E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457200"/>
            <a:ext cx="822960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2B96D-2A94-4714-82E1-000A9819CDB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